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38BB-F4D2-4AD6-ACEF-47062BCDE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5445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64C6-BDB6-4303-A4CE-E0940BCCE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F7C8-B172-4104-BD7E-A3F454451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3DF1-E4A7-48B5-B4D7-2C50FBAF8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D140-A3DD-4793-9835-3EC0F561A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80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35445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80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100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008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4761-01DC-433E-B27E-B270A329F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6F51-024D-413F-8CEA-85CDAC91D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FC72-DC4A-4EFC-9051-7C30E53B1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7A29-9C00-4B17-8A4B-FCD024B06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147F-65E4-4B04-A097-49252D9A3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0F9C-7523-4D55-BCC7-0599227ED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6DD4-86E6-4516-AF8B-D879D1C47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A134-C9BF-4FF5-A34C-A4FCC0548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4284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spute Timelines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PS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10, 2007</a:t>
            </a:r>
            <a:br>
              <a:rPr sz="36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Tim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838080"/>
          <a:ext cx="8839440" cy="5551560"/>
        </p:xfrm>
        <a:graphic>
          <a:graphicData uri="http://schemas.openxmlformats.org/drawingml/2006/table">
            <a:tbl>
              <a:tblPr/>
              <a:tblGrid>
                <a:gridCol w="1263600"/>
                <a:gridCol w="1262160"/>
                <a:gridCol w="1263600"/>
                <a:gridCol w="1260720"/>
                <a:gridCol w="1263600"/>
                <a:gridCol w="1262160"/>
                <a:gridCol w="1263600"/>
              </a:tblGrid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utes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5257800" y="2057400"/>
            <a:ext cx="3657600" cy="304920"/>
          </a:xfrm>
          <a:prstGeom prst="rightArrow">
            <a:avLst>
              <a:gd name="adj1" fmla="val 50000"/>
              <a:gd name="adj2" fmla="val 299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590920"/>
            <a:ext cx="8610480" cy="457200"/>
          </a:xfrm>
          <a:prstGeom prst="rightArrow">
            <a:avLst>
              <a:gd name="adj1" fmla="val 42361"/>
              <a:gd name="adj2" fmla="val 193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 Business Day to Sub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200400"/>
            <a:ext cx="3657600" cy="304920"/>
          </a:xfrm>
          <a:prstGeom prst="rightArrow">
            <a:avLst>
              <a:gd name="adj1" fmla="val 50000"/>
              <a:gd name="adj2" fmla="val 299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8672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334120"/>
            <a:ext cx="8686800" cy="304560"/>
          </a:xfrm>
          <a:prstGeom prst="rightArrow">
            <a:avLst>
              <a:gd name="adj1" fmla="val 39583"/>
              <a:gd name="adj2" fmla="val 2767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800600"/>
            <a:ext cx="8686800" cy="304920"/>
          </a:xfrm>
          <a:prstGeom prst="rightArrow">
            <a:avLst>
              <a:gd name="adj1" fmla="val 50000"/>
              <a:gd name="adj2" fmla="val 27644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191120"/>
            <a:ext cx="8686800" cy="457200"/>
          </a:xfrm>
          <a:prstGeom prst="rightArrow">
            <a:avLst>
              <a:gd name="adj1" fmla="val 43056"/>
              <a:gd name="adj2" fmla="val 19096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2 Business Days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733920"/>
            <a:ext cx="8686800" cy="304560"/>
          </a:xfrm>
          <a:prstGeom prst="rightArrow">
            <a:avLst>
              <a:gd name="adj1" fmla="val 40620"/>
              <a:gd name="adj2" fmla="val 30186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200400"/>
            <a:ext cx="3657600" cy="304920"/>
          </a:xfrm>
          <a:prstGeom prst="rightArrow">
            <a:avLst>
              <a:gd name="adj1" fmla="val 50000"/>
              <a:gd name="adj2" fmla="val 2998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4716-5874-44D6-9D24-01ABA2A1C7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20 Business Days Before Fi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280" y="838080"/>
          <a:ext cx="8839440" cy="5526360"/>
        </p:xfrm>
        <a:graphic>
          <a:graphicData uri="http://schemas.openxmlformats.org/drawingml/2006/table">
            <a:tbl>
              <a:tblPr/>
              <a:tblGrid>
                <a:gridCol w="1263600"/>
                <a:gridCol w="1262160"/>
                <a:gridCol w="1263600"/>
                <a:gridCol w="1260720"/>
                <a:gridCol w="1263600"/>
                <a:gridCol w="1262160"/>
                <a:gridCol w="1263600"/>
              </a:tblGrid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utes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5257800" y="2057400"/>
            <a:ext cx="3657600" cy="304920"/>
          </a:xfrm>
          <a:prstGeom prst="rightArrow">
            <a:avLst>
              <a:gd name="adj1" fmla="val 50000"/>
              <a:gd name="adj2" fmla="val 299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66880"/>
            <a:ext cx="8610480" cy="381240"/>
          </a:xfrm>
          <a:prstGeom prst="rightArrow">
            <a:avLst>
              <a:gd name="adj1" fmla="val 62500"/>
              <a:gd name="adj2" fmla="val 2010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 Business Days to Sub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733920"/>
            <a:ext cx="3657600" cy="30456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8672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4724280"/>
            <a:ext cx="8686800" cy="457200"/>
          </a:xfrm>
          <a:prstGeom prst="rightArrow">
            <a:avLst>
              <a:gd name="adj1" fmla="val 43750"/>
              <a:gd name="adj2" fmla="val 20416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 Business Days to reso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267080"/>
            <a:ext cx="8686800" cy="381240"/>
          </a:xfrm>
          <a:prstGeom prst="rightArrow">
            <a:avLst>
              <a:gd name="adj1" fmla="val 36667"/>
              <a:gd name="adj2" fmla="val 2328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3733920"/>
            <a:ext cx="3657600" cy="30456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200400"/>
            <a:ext cx="8534160" cy="304920"/>
          </a:xfrm>
          <a:prstGeom prst="rightArrow">
            <a:avLst>
              <a:gd name="adj1" fmla="val 50000"/>
              <a:gd name="adj2" fmla="val 2446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257800"/>
            <a:ext cx="8686800" cy="380880"/>
          </a:xfrm>
          <a:prstGeom prst="rightArrow">
            <a:avLst>
              <a:gd name="adj1" fmla="val 36667"/>
              <a:gd name="adj2" fmla="val 23303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F12A-8727-4185-A494-40F964484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ly vs. Untime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838080"/>
          <a:ext cx="8839440" cy="5592960"/>
        </p:xfrm>
        <a:graphic>
          <a:graphicData uri="http://schemas.openxmlformats.org/drawingml/2006/table">
            <a:tbl>
              <a:tblPr/>
              <a:tblGrid>
                <a:gridCol w="1263600"/>
                <a:gridCol w="1262160"/>
                <a:gridCol w="1263600"/>
                <a:gridCol w="1260720"/>
                <a:gridCol w="1263600"/>
                <a:gridCol w="1262160"/>
                <a:gridCol w="1263600"/>
              </a:tblGrid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utes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533520" y="27432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LY - Disputes submitted here will be resolved on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952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TIMELY - Disputes submitted here will be resolved on Final if possible, but definitely on True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EE04-6B90-4312-965E-190554E501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Day Log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iculty in using 20 Business days BEFORE F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ute before Final and True us 20 business day before next scheduled Settlement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ute on everything else (After True-Up, Resettlements, Day Ahead, etc) use 10 business day after last published Settlement log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business day AFTER log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ogic remains in business days after posted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that can easily be var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D632-C3F4-4001-A9FB-71E3302FE5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gges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1 – Keep Final at 59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existing log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y the time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2 – Move Final to allow mor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logic but allows more time to submit and resol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F04C-DE60-4379-9F60-443E451A40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. Martinez</dc:creator>
  <dc:description/>
  <dc:language>en-US</dc:language>
  <cp:lastModifiedBy>ERCOT Staff</cp:lastModifiedBy>
  <dcterms:modified xsi:type="dcterms:W3CDTF">2007-09-10T16:30:17Z</dcterms:modified>
  <cp:revision>96</cp:revision>
  <dc:subject>MODPO Project Status</dc:subject>
  <dc:title>COPS Update 121106</dc:title>
</cp:coreProperties>
</file>